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030-A468-42FB-9630-44033161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BF3-46B5-43FA-A2DC-1DB89062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9F3-BC7D-495C-A3B0-D9DCD27E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CB4-623D-49F0-A0E4-91A8B317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DD7-0CFE-4C39-9115-69FC370A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480-716C-45B5-9E1F-8AC4E686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332-13F2-440B-8CCD-0CB13CC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C7E-9430-4BFB-9D1A-7407E935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1F3-B8C6-4442-9FC9-C3CB87DA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891-9536-4918-BC93-706FA18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343-0C64-4A55-ABF8-485236F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B62-4F97-46ED-B6BE-27B5DD0E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E9EEA72-7326-4DD1-822D-90BBD97AE9D5}" type="slidenum"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4600" y="923760"/>
            <a:ext cx="74754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, Lo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, Lo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016000"/>
            <a:ext cx="1008072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16000"/>
            <a:ext cx="1008072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dep</cp:lastModifiedBy>
  <dcterms:modified xsi:type="dcterms:W3CDTF">2006-10-09T15:59:06Z</dcterms:modified>
  <cp:revision>3</cp:revision>
  <dc:subject/>
  <dc:title>Slide 1</dc:title>
</cp:coreProperties>
</file>